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7.wmf" ContentType="image/x-wmf"/>
  <Override PartName="/ppt/media/image26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9.wmf" ContentType="image/x-wmf"/>
  <Override PartName="/ppt/media/image18.jpeg" ContentType="image/jpeg"/>
  <Override PartName="/ppt/media/image17.wmf" ContentType="image/x-wmf"/>
  <Override PartName="/ppt/media/image16.png" ContentType="image/png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12.png" ContentType="image/png"/>
  <Override PartName="/ppt/media/image33.png" ContentType="image/png"/>
  <Override PartName="/ppt/media/image39.wmf" ContentType="image/x-wmf"/>
  <Override PartName="/ppt/media/image41.wmf" ContentType="image/x-wmf"/>
  <Override PartName="/ppt/media/image31.jpeg" ContentType="image/jpeg"/>
  <Override PartName="/ppt/media/image45.wmf" ContentType="image/x-wmf"/>
  <Override PartName="/ppt/media/image40.wmf" ContentType="image/x-wmf"/>
  <Override PartName="/ppt/media/image32.png" ContentType="image/png"/>
  <Override PartName="/ppt/media/image44.png" ContentType="image/png"/>
  <Override PartName="/ppt/media/image34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20.wmf" ContentType="image/x-wmf"/>
  <Override PartName="/ppt/media/image46.wmf" ContentType="image/x-wmf"/>
  <Override PartName="/ppt/media/image7.wmf" ContentType="image/x-wmf"/>
  <Override PartName="/ppt/media/image37.wmf" ContentType="image/x-wmf"/>
  <Override PartName="/ppt/media/image30.jpeg" ContentType="image/jpeg"/>
  <Override PartName="/ppt/media/image9.jpeg" ContentType="image/jpeg"/>
  <Override PartName="/ppt/media/image13.png" ContentType="image/png"/>
  <Override PartName="/ppt/media/image4.jpeg" ContentType="image/jpeg"/>
  <Override PartName="/ppt/media/image38.wmf" ContentType="image/x-wmf"/>
  <Override PartName="/ppt/media/image8.wmf" ContentType="image/x-wmf"/>
  <Override PartName="/ppt/media/image36.png" ContentType="image/png"/>
  <Override PartName="/ppt/media/image6.png" ContentType="image/png"/>
  <Override PartName="/ppt/media/image10.jpeg" ContentType="image/jpeg"/>
  <Override PartName="/ppt/media/image28.png" ContentType="image/png"/>
  <Override PartName="/ppt/media/image29.jpeg" ContentType="image/jpe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1008-8A2F-4D26-BA84-441375E82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929D-A99C-4368-A279-8844515AF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64DA023-F78C-4DE8-805B-BC21F4E1C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171FA98-AD50-40DE-8145-39B614434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1F78-9564-4EAA-8507-B4C2FDD1B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670A-2D42-478C-B857-6CD05A466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DEF9-98D6-4B93-B2DD-55891950E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F50A-1941-4D4B-BA48-69A4C3859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2899-B16C-42C5-B4B1-3494FA159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D1AB-FFAF-4ABC-B273-FCFF936FC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EB68-235B-469E-85F5-41E89FCE2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2F9C-A913-4750-A474-196D8724A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C3CD-2755-431E-A93F-408F4E5A5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41E9-0636-494F-AAC2-4AF3FA3FA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FB61-0BA5-46BF-9245-9A8E58F35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2262-97CD-4AFC-9C58-B7DF651FC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3568-A6DC-4C6F-9628-AF22CB893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3B61-2829-4D39-8452-AA61CE94E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5290-9084-405D-B228-3EDE7848A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55EF-3205-47E7-9184-BECF672D8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4465-892D-4E17-9ECD-0F6459882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5522-1406-40CD-A226-8BBDDD08E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628D-0004-454D-A580-6253A4E9E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76B4-99AD-4C2D-A556-0C362C4E4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AE6C-EC63-418E-B4C7-180D14E01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5446-618D-4E31-A98B-69264426C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7DA8-2884-47FB-B543-EA495F471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BC17-6770-473D-B508-0CDCE6729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74DF-8CFB-4998-9C11-311F88DA1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C3B2-132E-4694-9C1B-0B7D3F62B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7D6D-A0D2-4E90-89A7-920ED6A52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3B40-496C-49D4-A250-7E505170F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241F-ADAE-46C8-9EDC-5E972FA57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80302-3363-4C0F-A59C-78603FA692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88863-F880-4987-951D-5064F3E7A77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57B834-0768-46EE-986F-5A9AE35FED7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CB8C56-DA9E-44F0-BD9A-5D8881538A9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5C8C7B-539B-4D26-A48E-C436E5E7230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1811E4-973D-4975-A620-4C259B3CB6E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F1ED81-FE91-4A31-92AC-EDFEF09DFCA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452F9A-090E-4DEB-9707-D44D8BBE04B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83B4EC-05DC-47F1-BC00-8AA14AD84FD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66134C-6DC0-433F-AB9E-D54DB08279F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9DDF71-28A4-4951-8E5C-05F5C42ED11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00689-E4AB-42DA-9D3C-6A9ED30EDE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E3AC9-BD9B-4852-991B-575730BB880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23C48-1EFA-4ECC-81CC-52B8AFE0A66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C2551-ABA8-4E68-AF39-119F6827A50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9E456-06B4-4E8E-A15D-C5021529A54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0A069-B8DD-46E4-8486-3CF47546143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B09DF-8C49-49A6-8E49-3211E0EE44F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B4967-53FD-4631-AC5C-B8A2E04CCE8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C5D7C-E415-4447-B500-2C9185D3C41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FF6B0-DD9A-4CE4-AE35-0C62EFFE29C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E4CBC-596E-4DB2-919A-8BDB7F97F16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390D1-4B6C-4157-A041-FB9E74CADD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510F0-7AED-4A85-BC2A-69E30F0D723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B92A4-4920-4695-A8DD-157092AEF9D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5311EF-AEFA-492B-BE98-C76AA5AF0BA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5EBF11-D701-416C-B231-967FF09B375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20D150-0F6F-4652-89A2-7BFC055F041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08C3D2-DEB9-4E86-8D61-038D75A6C2C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BAA277-3BE2-4468-AABD-C650C467CF2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DEF181-5751-41F4-88F1-AE4B49A86C5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91BC63-20FB-48F9-9F13-126F67C27C4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AB0CDE-A536-48A9-8685-71C37EA8B9F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4E0410-5F5F-4592-A817-34FE803E01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2788F0-8E10-4E7D-87F5-4445B041D6F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F79DDD-ECE7-4202-B39D-0CB4216AA28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1F2450-E072-41A1-B64B-862BC8C43ED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115E52-DCDE-4354-9EA6-738F147E550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28490E-CA57-4FDE-A777-9DA984BC9FB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3C5D7F-E9B1-4BC1-AC7E-629E83F9319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262CD9-05BB-4FB5-80C0-C7522762322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1A2A3E-DC97-4489-B566-6D46151E3FB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575FA3-B031-4634-9690-AEF219645F5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2EABB9-CA1D-4DA3-909B-7F3BE68D09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BE32B7-9882-4ACC-B852-FA676BBB373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DB1E40-0732-4023-B98A-C27B7CAD56B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98E0B4-C8B4-4EC0-A03F-5394BD3FC19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8A1A81-4999-40D3-AA05-67B293BA5E8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A8BE4A9-CD27-46C4-87CD-A961A003E20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49D77-6611-4284-B0D3-215D026671F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8226D-1F9C-4264-B943-AD3EDD670D5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13692-0C09-4ED6-9EC3-003498C49F5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39E97-8667-40ED-A001-1D46B11D06F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56548-3409-44E8-8912-662B33A971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0C63B-A288-4D2F-A874-ED9D8720E0E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C6D10-0D4F-4201-B557-D5C012FEA19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25208-3004-496E-B4C8-8097A242CA5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9F68E-4F0A-4641-A942-84A1D5D2177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D6CA7-5227-4CA9-94F0-0B5128CEDD6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97845-FD55-4841-9633-B5BE8B0D7F3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D9F7B-8428-4EB7-89F3-AE6E52B9EA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3AD36-7E15-4A54-9BE3-C52838BFF2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EB183E-13C1-491C-AEF6-F60465ED51E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DCFC6A-134A-4719-A00A-FCE90F82A21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1E464A-641E-4368-90FB-FC4679AD9DF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70468B-2CE0-4B15-9071-A27013D59CA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C3FA89-B6B8-4B16-921C-480C9842F3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548F9-3F4F-4309-8697-38993B46DF8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BB7B42-F23C-4F40-8EFE-EA71DBC06DC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FC76EB-9D12-4500-9707-19CC478358E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D58CE6-0724-4906-9375-C751E3B820F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4AEBC6-37BD-44B1-9089-1ABF0C25BCE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434773-5CCE-4263-A0FD-1B15ADFE67B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0C7EE-BC9D-4DBD-A5A1-C9966298AC7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D2959-D602-411F-9E26-8C5CF21F9F5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226B-22D7-41AB-90D9-BB04E9811DA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3B5D5-4F63-439E-9ABF-8EF058BC70D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3E86A-F4BC-4C0C-93E6-CA8518CF54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28B3C-97BF-484F-A30B-805E1ACA1E1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86F3-77F6-4150-B369-4E954F1E633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53FE-A412-4E2C-A560-565FC247CA0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AD7D-BD18-4FF1-959D-85F98DF3978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35A5-AB3D-4ADD-9B4B-9E8146CDDD7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D122-DBA8-4031-B9DC-8DB2835A17D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0172-93B7-4CF7-86D1-A556DDD18AD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1C8E-5878-48DB-A3F6-09EB1ADE295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90D6-4690-4597-87C6-95AA207D3F3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C030-B49D-4430-9273-9B233CF9F3B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64817D-1DD9-4D89-8CB1-4F30308513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DD102-7EC2-4189-BEDF-256F301E903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C25DA4-9E32-4D79-B233-E2D88678900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16BAA5-17A6-4EAB-94A2-007831C1D67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AC30CB-CD49-481F-966E-76B490EA643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605E13-DE95-4332-B630-4CDCDF26403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33E6FC-029C-4A1B-878B-5EC4D3247A1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3DD1D1-E766-485A-B47D-487829D6D1F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FE8073-1D0F-403D-8CC6-23822E51AC5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4C4385-996D-4C33-B459-93797BD6798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CBADFF-5549-4D47-ADF4-5B2F2063843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140F46-DD95-4C9F-AAA6-A18EF6C07B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B6BA7-A13C-48AD-BFB2-87FE0801662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877176-9378-42BF-9D28-09FD5036424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4CBB65-B126-4B4D-B46F-0837A8B584B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854852-7088-4F38-B82A-4D806D12AE9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F41777-BC31-4195-AD8E-C108691032B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CDB7A3-2D6E-4DD8-8A02-5445790E147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7754F1-4E4E-462A-893C-2B8B4EE9878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E3000E-445E-4A7E-B65D-B342AD4C54C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8B8461-F704-4CA5-BC04-0B41F9EA752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EF46A6-87D9-491A-8B2C-E023A7A7D0C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B7586D-82DC-4AE5-8938-05F71C0FAF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4B25C-25D7-4195-9D65-C68F52E6E4E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07C5AA-7679-4DDA-B2D8-9162818C4CE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2072A3-1DB9-42C2-9F15-A0BC4A10D3E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9A35BD-1D40-406E-9B60-2D6C86D0FAE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33005-9DB2-424B-B014-1F12D7B9FB3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92758-3DCF-4D9A-AF62-9C77B859C26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5A952-F4DC-4154-93DB-C9D2E47C560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95D09-50A6-446C-97E7-2B257D1AE11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72F3E-BBE7-4585-BFD3-72013D0AD23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7B452-5001-4265-BDCD-CF0A0759AB2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6BFB9-14DD-4134-B73A-71424DED66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BD4C8-138D-469C-AFCD-2EE7C15516B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AF761-AF68-4D00-9442-A6D98A0B595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D4452-666B-4155-BB4F-6E2FBC4F4A7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F0511-02CB-4C2A-B90D-8B25CB74654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42EDB-E6DF-4272-B587-CE4F63FAFF6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88952-7D2D-4D4D-858C-A161C60302F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416DA6-77E7-4B65-9E85-D3A15009DA1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7E8685-C4C9-4AC7-8283-6B248EC4076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0B23E7-E5A8-435F-9EE6-D2D615FCA34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B4F285-082D-41A1-9D84-BA62E67A1CE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77401A-D1D8-4661-9B36-EC1D2CD651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52C7B-BEEA-4C8D-8DA4-CB836C1A6FE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B97CBE-84AE-43A0-ADD3-DA99AB0C79F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8A4254-D134-4ADD-8C0D-46465E0EBAF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4EB2C5-1E0C-4A4D-A27D-24A69EA2C04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6C0281-39DC-4B54-B85A-B563A61FC0F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8D2F7B-6CAC-4462-BFEC-AA74DF92207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54DC04-98A4-4D7D-9EDE-1AEEBB9DDB9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815D8D-3CDF-45B8-BBB6-44A2D258F70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64BF2C-64DC-43EA-A7B6-7595C540DF2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E70B06-B7B7-4900-9569-EE4233EF26C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D56C6D-8206-46D2-AFBF-5FC7BD553F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3B8A-DBCC-47B0-B9DB-FC9B662C7E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ftr" idx="17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sldNum" idx="18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5F57-2C2A-4DE6-BB6F-C31AD5EF8B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ftr" idx="19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sldNum" idx="20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00AA-9F8C-481E-A69F-EA5413BED0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ftr" idx="2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sldNum" idx="2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27B4-BE05-41FF-A2A5-062D05237C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ftr" idx="2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sldNum" idx="2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FCF5-E0D1-420D-970E-70251067B1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CLSI_WHO_Blue_CMYK1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4273-2569-4A06-A625-7AC5C08090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5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3928-9071-4133-ADAD-9648D99CCA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7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8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3B62-CE94-45FD-BE91-A41C71B147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ftr" idx="9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0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AC99-C160-4389-B677-786642C750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ftr" idx="1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sldNum" idx="1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4547-8EDF-402B-9F47-2D08B0EBD7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ftr" idx="1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sldNum" idx="1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2310-CDB0-4FF5-A0C9-CC1F2A473C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ftr" idx="15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sldNum" idx="1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61B7-04AA-4B97-BFEA-09375BBCE0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wmf"/><Relationship Id="rId7" Type="http://schemas.openxmlformats.org/officeDocument/2006/relationships/image" Target="../media/image12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85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29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7.wmf"/><Relationship Id="rId8" Type="http://schemas.openxmlformats.org/officeDocument/2006/relationships/image" Target="../media/image38.wmf"/><Relationship Id="rId9" Type="http://schemas.openxmlformats.org/officeDocument/2006/relationships/image" Target="../media/image39.wmf"/><Relationship Id="rId10" Type="http://schemas.openxmlformats.org/officeDocument/2006/relationships/image" Target="../media/image40.wmf"/><Relationship Id="rId11" Type="http://schemas.openxmlformats.org/officeDocument/2006/relationships/image" Target="../media/image41.wmf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66688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ценка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Аудиты</a:t>
            </a:r>
            <a:endParaRPr b="0" lang="en-US" sz="48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аудит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33160" y="1347840"/>
            <a:ext cx="8305560" cy="28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информацию 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сса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ерационных процедур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х, оборудовани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тодах анализ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виях работ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ращении с проб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ействиях по проверке контроля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дении записей и предоставлении отчет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3" name="Picture 4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648320" y="4267080"/>
            <a:ext cx="3525840" cy="223056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MCj04349290000[1]"/>
          <p:cNvPicPr/>
          <p:nvPr/>
        </p:nvPicPr>
        <p:blipFill>
          <a:blip r:embed="rId2"/>
          <a:stretch/>
        </p:blipFill>
        <p:spPr>
          <a:xfrm>
            <a:off x="1676520" y="41623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80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713C-A2BC-4BE0-85A6-ABB00A3C0D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/>
          </p:nvPr>
        </p:nvSpPr>
        <p:spPr>
          <a:xfrm>
            <a:off x="1066680" y="1523520"/>
            <a:ext cx="784872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авните результаты с документами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е нарушения в системе или отклонения от процеду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едпримите действия по результатам ауди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3666-569E-4845-838C-14CFDEF71D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Rectangle 2"/>
          <p:cNvSpPr/>
          <p:nvPr/>
        </p:nvSpPr>
        <p:spPr>
          <a:xfrm>
            <a:off x="45720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ауди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295280"/>
            <a:ext cx="7619760" cy="5029200"/>
          </a:xfrm>
          <a:prstGeom prst="rect">
            <a:avLst/>
          </a:prstGeom>
          <a:ln w="0">
            <a:noFill/>
          </a:ln>
        </p:spPr>
      </p:pic>
      <p:sp>
        <p:nvSpPr>
          <p:cNvPr id="812" name="Rectangle 7"/>
          <p:cNvSpPr/>
          <p:nvPr/>
        </p:nvSpPr>
        <p:spPr>
          <a:xfrm>
            <a:off x="53352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шние аудитор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3" name="Picture 8" descr="lab_design"/>
          <p:cNvPicPr/>
          <p:nvPr/>
        </p:nvPicPr>
        <p:blipFill>
          <a:blip r:embed="rId2"/>
          <a:stretch/>
        </p:blipFill>
        <p:spPr>
          <a:xfrm>
            <a:off x="3200400" y="2133720"/>
            <a:ext cx="2593800" cy="3124080"/>
          </a:xfrm>
          <a:prstGeom prst="rect">
            <a:avLst/>
          </a:prstGeom>
          <a:ln w="0">
            <a:noFill/>
          </a:ln>
        </p:spPr>
      </p:pic>
      <p:sp>
        <p:nvSpPr>
          <p:cNvPr id="814" name="Rectangle 9"/>
          <p:cNvSpPr/>
          <p:nvPr/>
        </p:nvSpPr>
        <p:spPr>
          <a:xfrm>
            <a:off x="3200400" y="3276720"/>
            <a:ext cx="2819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AEC1-B2CB-4D1A-8101-A41E76E4F3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Footer Placeholder 10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Oval 3"/>
          <p:cNvSpPr/>
          <p:nvPr/>
        </p:nvSpPr>
        <p:spPr>
          <a:xfrm>
            <a:off x="228600" y="1371600"/>
            <a:ext cx="3581280" cy="15238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Oval 5"/>
          <p:cNvSpPr/>
          <p:nvPr/>
        </p:nvSpPr>
        <p:spPr>
          <a:xfrm>
            <a:off x="5486400" y="4495680"/>
            <a:ext cx="3505320" cy="15368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Oval 4"/>
          <p:cNvSpPr/>
          <p:nvPr/>
        </p:nvSpPr>
        <p:spPr>
          <a:xfrm>
            <a:off x="5181480" y="1523880"/>
            <a:ext cx="3505320" cy="12956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Oval 6"/>
          <p:cNvSpPr/>
          <p:nvPr/>
        </p:nvSpPr>
        <p:spPr>
          <a:xfrm>
            <a:off x="380880" y="4495680"/>
            <a:ext cx="289584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нансирующ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TextBox 1"/>
          <p:cNvSpPr/>
          <p:nvPr/>
        </p:nvSpPr>
        <p:spPr>
          <a:xfrm>
            <a:off x="304920" y="15238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рганы здравоо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TextBox 2"/>
          <p:cNvSpPr/>
          <p:nvPr/>
        </p:nvSpPr>
        <p:spPr>
          <a:xfrm>
            <a:off x="5105520" y="163656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ы по аккреди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TextBox 3"/>
          <p:cNvSpPr/>
          <p:nvPr/>
        </p:nvSpPr>
        <p:spPr>
          <a:xfrm>
            <a:off x="5578560" y="4648320"/>
            <a:ext cx="341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ы  охраны здоровь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File"/>
          <p:cNvSpPr/>
          <p:nvPr/>
        </p:nvSpPr>
        <p:spPr>
          <a:xfrm>
            <a:off x="4724280" y="1598760"/>
            <a:ext cx="3733920" cy="15238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порядочи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25" name="Group 3"/>
          <p:cNvGrpSpPr/>
          <p:nvPr/>
        </p:nvGrpSpPr>
        <p:grpSpPr>
          <a:xfrm>
            <a:off x="4876920" y="2741760"/>
            <a:ext cx="3885840" cy="2971440"/>
            <a:chOff x="4876920" y="2741760"/>
            <a:chExt cx="3885840" cy="2971440"/>
          </a:xfrm>
        </p:grpSpPr>
        <p:sp>
          <p:nvSpPr>
            <p:cNvPr id="826" name="Puzzle3"/>
            <p:cNvSpPr/>
            <p:nvPr/>
          </p:nvSpPr>
          <p:spPr>
            <a:xfrm>
              <a:off x="6769440" y="2741760"/>
              <a:ext cx="1527480" cy="1579320"/>
            </a:xfrm>
            <a:custGeom>
              <a:avLst/>
              <a:gdLst>
                <a:gd name="textAreaLeft" fmla="*/ 160200 w 1527480"/>
                <a:gd name="textAreaRight" fmla="*/ 1354680 w 1527480"/>
                <a:gd name="textAreaTop" fmla="*/ 564120 h 1579320"/>
                <a:gd name="textAreaBottom" fmla="*/ 1479240 h 157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7" name="Puzzle2"/>
            <p:cNvSpPr/>
            <p:nvPr/>
          </p:nvSpPr>
          <p:spPr>
            <a:xfrm>
              <a:off x="6324840" y="3891960"/>
              <a:ext cx="2437920" cy="1438200"/>
            </a:xfrm>
            <a:custGeom>
              <a:avLst/>
              <a:gdLst>
                <a:gd name="textAreaLeft" fmla="*/ 608760 w 2437920"/>
                <a:gd name="textAreaRight" fmla="*/ 1826640 w 2437920"/>
                <a:gd name="textAreaTop" fmla="*/ 448200 h 1438200"/>
                <a:gd name="textAreaBottom" fmla="*/ 1361160 h 143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8" name="Puzzle4"/>
            <p:cNvSpPr/>
            <p:nvPr/>
          </p:nvSpPr>
          <p:spPr>
            <a:xfrm>
              <a:off x="5381280" y="3874320"/>
              <a:ext cx="1469880" cy="1838880"/>
            </a:xfrm>
            <a:custGeom>
              <a:avLst/>
              <a:gdLst>
                <a:gd name="textAreaLeft" fmla="*/ 141120 w 1469880"/>
                <a:gd name="textAreaRight" fmla="*/ 1375560 w 1469880"/>
                <a:gd name="textAreaTop" fmla="*/ 481680 h 1838880"/>
                <a:gd name="textAreaBottom" fmla="*/ 1360080 h 183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9" name="Puzzle1"/>
            <p:cNvSpPr/>
            <p:nvPr/>
          </p:nvSpPr>
          <p:spPr>
            <a:xfrm>
              <a:off x="4876920" y="3219480"/>
              <a:ext cx="2468160" cy="1096200"/>
            </a:xfrm>
            <a:custGeom>
              <a:avLst/>
              <a:gdLst>
                <a:gd name="textAreaLeft" fmla="*/ 695160 w 2468160"/>
                <a:gd name="textAreaRight" fmla="*/ 1842840 w 2468160"/>
                <a:gd name="textAreaTop" fmla="*/ 130320 h 1096200"/>
                <a:gd name="textAreaBottom" fmla="*/ 992160 h 109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830" name="Picture 9" descr="j0213395"/>
          <p:cNvPicPr/>
          <p:nvPr/>
        </p:nvPicPr>
        <p:blipFill>
          <a:blip r:embed="rId1"/>
          <a:stretch/>
        </p:blipFill>
        <p:spPr>
          <a:xfrm>
            <a:off x="4367160" y="4724280"/>
            <a:ext cx="1652760" cy="160020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10" descr="j0433934"/>
          <p:cNvPicPr/>
          <p:nvPr/>
        </p:nvPicPr>
        <p:blipFill>
          <a:blip r:embed="rId2"/>
          <a:stretch/>
        </p:blipFill>
        <p:spPr>
          <a:xfrm>
            <a:off x="409680" y="4192560"/>
            <a:ext cx="1419120" cy="182736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11"/>
          <p:cNvSpPr/>
          <p:nvPr/>
        </p:nvSpPr>
        <p:spPr>
          <a:xfrm>
            <a:off x="1371600" y="42670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spcBef>
                <a:spcPts val="1500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оставьте с сотрудниками распис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Rectangle 12"/>
          <p:cNvSpPr/>
          <p:nvPr/>
        </p:nvSpPr>
        <p:spPr>
          <a:xfrm>
            <a:off x="228600" y="457200"/>
            <a:ext cx="8001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готовка к внешнему аудит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Text Box 13"/>
          <p:cNvSpPr/>
          <p:nvPr/>
        </p:nvSpPr>
        <p:spPr>
          <a:xfrm>
            <a:off x="5715000" y="441792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оберите информацию и запис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5" name="Picture 15" descr="MCj03636380000[1]"/>
          <p:cNvPicPr/>
          <p:nvPr/>
        </p:nvPicPr>
        <p:blipFill>
          <a:blip r:embed="rId3"/>
          <a:stretch/>
        </p:blipFill>
        <p:spPr>
          <a:xfrm>
            <a:off x="1065240" y="1598760"/>
            <a:ext cx="3201840" cy="2408040"/>
          </a:xfrm>
          <a:prstGeom prst="rect">
            <a:avLst/>
          </a:prstGeom>
          <a:ln w="0">
            <a:noFill/>
          </a:ln>
        </p:spPr>
      </p:pic>
      <p:sp>
        <p:nvSpPr>
          <p:cNvPr id="836" name="Text Box 16"/>
          <p:cNvSpPr/>
          <p:nvPr/>
        </p:nvSpPr>
        <p:spPr>
          <a:xfrm>
            <a:off x="1143000" y="201780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spcBef>
                <a:spcPts val="17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Сделайте пла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Slide Number Placeholder 1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F6F5-F794-420D-95B0-27FD2A982A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Footer Placeholder 1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чет внешнего аудита и план действи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0" name="Rectangle 4"/>
          <p:cNvSpPr/>
          <p:nvPr/>
        </p:nvSpPr>
        <p:spPr>
          <a:xfrm>
            <a:off x="5715000" y="2736720"/>
            <a:ext cx="2666880" cy="838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  <a:ea typeface="Arial"/>
              </a:rPr>
              <a:t>Выявите пробе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Rectangle 5"/>
          <p:cNvSpPr/>
          <p:nvPr/>
        </p:nvSpPr>
        <p:spPr>
          <a:xfrm>
            <a:off x="304920" y="4572000"/>
            <a:ext cx="2971800" cy="1523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арегистрируйте результаты и действ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пишите отч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Rectangle 6"/>
          <p:cNvSpPr/>
          <p:nvPr/>
        </p:nvSpPr>
        <p:spPr>
          <a:xfrm>
            <a:off x="4724280" y="3733920"/>
            <a:ext cx="365760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Запланируйте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Rectangle 7"/>
          <p:cNvSpPr/>
          <p:nvPr/>
        </p:nvSpPr>
        <p:spPr>
          <a:xfrm>
            <a:off x="3962520" y="4876920"/>
            <a:ext cx="419076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Определите срок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Распределите ответств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Text Box 8"/>
          <p:cNvSpPr/>
          <p:nvPr/>
        </p:nvSpPr>
        <p:spPr>
          <a:xfrm>
            <a:off x="4495680" y="1684440"/>
            <a:ext cx="4419720" cy="825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Лаборатория понимает рекоменд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AutoShape 9"/>
          <p:cNvSpPr/>
          <p:nvPr/>
        </p:nvSpPr>
        <p:spPr>
          <a:xfrm>
            <a:off x="3048120" y="1752480"/>
            <a:ext cx="1371600" cy="76212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AutoShape 10"/>
          <p:cNvSpPr/>
          <p:nvPr/>
        </p:nvSpPr>
        <p:spPr>
          <a:xfrm rot="10800000">
            <a:off x="2819160" y="5715000"/>
            <a:ext cx="6019560" cy="838080"/>
          </a:xfrm>
          <a:custGeom>
            <a:avLst/>
            <a:gdLst>
              <a:gd name="textAreaLeft" fmla="*/ 940320 w 6019560"/>
              <a:gd name="textAreaRight" fmla="*/ 5267160 w 601956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AutoShape 11"/>
          <p:cNvSpPr/>
          <p:nvPr/>
        </p:nvSpPr>
        <p:spPr>
          <a:xfrm rot="5400000">
            <a:off x="6781320" y="3657600"/>
            <a:ext cx="3505320" cy="762120"/>
          </a:xfrm>
          <a:custGeom>
            <a:avLst/>
            <a:gdLst>
              <a:gd name="textAreaLeft" fmla="*/ 547560 w 3505320"/>
              <a:gd name="textAreaRight" fmla="*/ 3067200 w 35053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AutoShape 14"/>
          <p:cNvSpPr/>
          <p:nvPr/>
        </p:nvSpPr>
        <p:spPr>
          <a:xfrm>
            <a:off x="685800" y="1844640"/>
            <a:ext cx="2209680" cy="21938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вод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 отчет аудит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5376-06C3-43A7-8B90-C87F1E5204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Footer Placeholder 1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Picture 2" descr="spy_guy_bck_col"/>
          <p:cNvPicPr/>
          <p:nvPr/>
        </p:nvPicPr>
        <p:blipFill>
          <a:blip r:embed="rId1"/>
          <a:stretch/>
        </p:blipFill>
        <p:spPr>
          <a:xfrm>
            <a:off x="380880" y="1371600"/>
            <a:ext cx="1905120" cy="175248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3" descr="j0335232"/>
          <p:cNvPicPr/>
          <p:nvPr/>
        </p:nvPicPr>
        <p:blipFill>
          <a:blip r:embed="rId2"/>
          <a:stretch/>
        </p:blipFill>
        <p:spPr>
          <a:xfrm>
            <a:off x="6629400" y="1447920"/>
            <a:ext cx="2057400" cy="1954080"/>
          </a:xfrm>
          <a:prstGeom prst="rect">
            <a:avLst/>
          </a:prstGeom>
          <a:ln w="0">
            <a:noFill/>
          </a:ln>
        </p:spPr>
      </p:pic>
      <p:sp>
        <p:nvSpPr>
          <p:cNvPr id="853" name="Text Box 4"/>
          <p:cNvSpPr/>
          <p:nvPr/>
        </p:nvSpPr>
        <p:spPr>
          <a:xfrm>
            <a:off x="6553080" y="9144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Гибк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4" name="Picture 5" descr="j0424784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855" name="Text Box 6"/>
          <p:cNvSpPr/>
          <p:nvPr/>
        </p:nvSpPr>
        <p:spPr>
          <a:xfrm>
            <a:off x="6477120" y="36720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дорого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3808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утренний ауди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Text Box 74"/>
          <p:cNvSpPr/>
          <p:nvPr/>
        </p:nvSpPr>
        <p:spPr>
          <a:xfrm>
            <a:off x="2590920" y="4695840"/>
            <a:ext cx="66294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требуется стандартами ИС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водят регуляр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водят, когда выявляют пробле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Text Box 75"/>
          <p:cNvSpPr/>
          <p:nvPr/>
        </p:nvSpPr>
        <p:spPr>
          <a:xfrm>
            <a:off x="2392200" y="14940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ссмотрите свои собственные 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90CB-08BF-419B-9AB2-8787B60CE4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Footer Placeholder 1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1" name="Picture 1" descr=""/>
          <p:cNvPicPr/>
          <p:nvPr/>
        </p:nvPicPr>
        <p:blipFill>
          <a:blip r:embed="rId4"/>
          <a:stretch/>
        </p:blipFill>
        <p:spPr>
          <a:xfrm>
            <a:off x="392040" y="3932280"/>
            <a:ext cx="2198880" cy="204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нность внутренних ауди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47636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авливают к внешнему ауди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особствуют осознан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и для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преждающие и корректирующие действия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и для повышения квалифик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ответствие стандартам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3011-23F6-41D1-93CF-8D4A915108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6840" y="507600"/>
            <a:ext cx="838188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нутренние аудит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требования ИСО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7" name="Rectangle 3"/>
          <p:cNvSpPr/>
          <p:nvPr/>
        </p:nvSpPr>
        <p:spPr>
          <a:xfrm>
            <a:off x="685800" y="1371600"/>
            <a:ext cx="822960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а быть программа ауди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ы должны быть задокументирован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удиторы должны быть независимыми от проверяем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зультаты документируются и передаются руководству для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дение безотлагательных послед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29B3-D3C9-4CB5-93DB-01015D37AC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12"/>
          <p:cNvSpPr/>
          <p:nvPr/>
        </p:nvSpPr>
        <p:spPr>
          <a:xfrm>
            <a:off x="457200" y="46548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нутренние ауди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Text Box 13"/>
          <p:cNvSpPr/>
          <p:nvPr/>
        </p:nvSpPr>
        <p:spPr>
          <a:xfrm>
            <a:off x="304920" y="1905120"/>
            <a:ext cx="358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Не проводите аудит собственной работы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Slide Number Placeholder 1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ACBE-4A17-472B-B77A-AA34D209FA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Footer Placeholder 1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Rectangle 2"/>
          <p:cNvSpPr/>
          <p:nvPr/>
        </p:nvSpPr>
        <p:spPr>
          <a:xfrm>
            <a:off x="3886200" y="762120"/>
            <a:ext cx="5029200" cy="48765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5029200" y="175248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Rectangle 4"/>
          <p:cNvSpPr/>
          <p:nvPr/>
        </p:nvSpPr>
        <p:spPr>
          <a:xfrm>
            <a:off x="6248520" y="5181480"/>
            <a:ext cx="266688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русолог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Arc 5"/>
          <p:cNvSpPr/>
          <p:nvPr/>
        </p:nvSpPr>
        <p:spPr>
          <a:xfrm>
            <a:off x="7118280" y="2568600"/>
            <a:ext cx="1447920" cy="1523880"/>
          </a:xfrm>
          <a:prstGeom prst="pie">
            <a:avLst/>
          </a:prstGeom>
          <a:gradFill rotWithShape="0">
            <a:gsLst>
              <a:gs pos="0">
                <a:srgbClr val="b27e5e"/>
              </a:gs>
              <a:gs pos="100000">
                <a:srgbClr val="523a2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льминт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8" name="Arc 6"/>
          <p:cNvSpPr/>
          <p:nvPr/>
        </p:nvSpPr>
        <p:spPr>
          <a:xfrm rot="5400000">
            <a:off x="5295600" y="3162240"/>
            <a:ext cx="1295640" cy="1676160"/>
          </a:xfrm>
          <a:prstGeom prst="pie">
            <a:avLst/>
          </a:prstGeom>
          <a:solidFill>
            <a:srgbClr val="ffd9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ч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AutoShape 7"/>
          <p:cNvSpPr/>
          <p:nvPr/>
        </p:nvSpPr>
        <p:spPr>
          <a:xfrm rot="10800000">
            <a:off x="7962840" y="3580920"/>
            <a:ext cx="603360" cy="1752840"/>
          </a:xfrm>
          <a:prstGeom prst="downArrow">
            <a:avLst>
              <a:gd name="adj1" fmla="val 55843"/>
              <a:gd name="adj2" fmla="val 87100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AutoShape 8"/>
          <p:cNvSpPr/>
          <p:nvPr/>
        </p:nvSpPr>
        <p:spPr>
          <a:xfrm rot="3939000">
            <a:off x="6377400" y="2399400"/>
            <a:ext cx="537840" cy="1523880"/>
          </a:xfrm>
          <a:prstGeom prst="downArrow">
            <a:avLst>
              <a:gd name="adj1" fmla="val 50000"/>
              <a:gd name="adj2" fmla="val 8338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AutoShape 9"/>
          <p:cNvSpPr/>
          <p:nvPr/>
        </p:nvSpPr>
        <p:spPr>
          <a:xfrm rot="17854200">
            <a:off x="4418640" y="4769280"/>
            <a:ext cx="1833480" cy="536400"/>
          </a:xfrm>
          <a:prstGeom prst="rightArrow">
            <a:avLst>
              <a:gd name="adj1" fmla="val 50000"/>
              <a:gd name="adj2" fmla="val 10950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Text Box 10"/>
          <p:cNvSpPr/>
          <p:nvPr/>
        </p:nvSpPr>
        <p:spPr>
          <a:xfrm>
            <a:off x="4952880" y="190512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Бактериолог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Text Box 11"/>
          <p:cNvSpPr/>
          <p:nvPr/>
        </p:nvSpPr>
        <p:spPr>
          <a:xfrm>
            <a:off x="4648320" y="674640"/>
            <a:ext cx="419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Лаборатория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Rectangle 14"/>
          <p:cNvSpPr/>
          <p:nvPr/>
        </p:nvSpPr>
        <p:spPr>
          <a:xfrm>
            <a:off x="2362320" y="5029200"/>
            <a:ext cx="251460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сультант, другая лаборатор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Group 17"/>
          <p:cNvGrpSpPr/>
          <p:nvPr/>
        </p:nvGrpSpPr>
        <p:grpSpPr>
          <a:xfrm>
            <a:off x="606600" y="785880"/>
            <a:ext cx="8537400" cy="5705280"/>
            <a:chOff x="606600" y="785880"/>
            <a:chExt cx="8537400" cy="5705280"/>
          </a:xfrm>
        </p:grpSpPr>
        <p:grpSp>
          <p:nvGrpSpPr>
            <p:cNvPr id="886" name="Diagram 2"/>
            <p:cNvGrpSpPr/>
            <p:nvPr/>
          </p:nvGrpSpPr>
          <p:grpSpPr>
            <a:xfrm>
              <a:off x="606600" y="785880"/>
              <a:ext cx="8084160" cy="4377960"/>
              <a:chOff x="606600" y="785880"/>
              <a:chExt cx="8084160" cy="4377960"/>
            </a:xfrm>
          </p:grpSpPr>
          <p:sp>
            <p:nvSpPr>
              <p:cNvPr id="887" name="_s1028"/>
              <p:cNvSpPr/>
              <p:nvPr/>
            </p:nvSpPr>
            <p:spPr>
              <a:xfrm flipH="1">
                <a:off x="2702520" y="3809520"/>
                <a:ext cx="969480" cy="54972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8" name="_s1029"/>
              <p:cNvSpPr/>
              <p:nvPr/>
            </p:nvSpPr>
            <p:spPr>
              <a:xfrm>
                <a:off x="606600" y="3734640"/>
                <a:ext cx="2441160" cy="142920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Подготовьте 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документы</a:t>
                </a:r>
                <a:r>
                  <a:rPr b="1" lang="ru-RU" sz="25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br>
                  <a:rPr sz="1500"/>
                </a:br>
                <a:r>
                  <a:rPr b="1" lang="ru-RU" sz="1500" spc="-1" strike="noStrike">
                    <a:solidFill>
                      <a:srgbClr val="000000"/>
                    </a:solidFill>
                    <a:latin typeface="Verdana"/>
                  </a:rPr>
                  <a:t>контрольные списки</a:t>
                </a: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500" spc="-1" strike="noStrike">
                    <a:solidFill>
                      <a:srgbClr val="000000"/>
                    </a:solidFill>
                    <a:latin typeface="Verdana"/>
                  </a:rPr>
                  <a:t>формы</a:t>
                </a: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9" name="_s1030"/>
              <p:cNvSpPr/>
              <p:nvPr/>
            </p:nvSpPr>
            <p:spPr>
              <a:xfrm>
                <a:off x="5621400" y="4001760"/>
                <a:ext cx="973080" cy="35532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0" name="_s1031"/>
              <p:cNvSpPr/>
              <p:nvPr/>
            </p:nvSpPr>
            <p:spPr>
              <a:xfrm>
                <a:off x="6443280" y="3582000"/>
                <a:ext cx="2247480" cy="158184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Составьте график регулярных аудитов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1" name="_s1032"/>
              <p:cNvSpPr/>
              <p:nvPr/>
            </p:nvSpPr>
            <p:spPr>
              <a:xfrm flipV="1">
                <a:off x="4573440" y="2214720"/>
                <a:ext cx="0" cy="71460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2" name="_s1033"/>
              <p:cNvSpPr/>
              <p:nvPr/>
            </p:nvSpPr>
            <p:spPr>
              <a:xfrm>
                <a:off x="3354120" y="785880"/>
                <a:ext cx="2418120" cy="142920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99"/>
                    </a:solidFill>
                    <a:latin typeface="Verdana"/>
                  </a:rPr>
                  <a:t>Программа внутреннего аудита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3" name="_s1034"/>
              <p:cNvSpPr/>
              <p:nvPr/>
            </p:nvSpPr>
            <p:spPr>
              <a:xfrm>
                <a:off x="3354120" y="2743560"/>
                <a:ext cx="2513520" cy="142956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cccce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Распределите обязанности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94" name="Text Box 11"/>
            <p:cNvSpPr/>
            <p:nvPr/>
          </p:nvSpPr>
          <p:spPr>
            <a:xfrm>
              <a:off x="6324480" y="5776920"/>
              <a:ext cx="281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895" name="Picture 12" descr="j0432664"/>
            <p:cNvPicPr/>
            <p:nvPr/>
          </p:nvPicPr>
          <p:blipFill>
            <a:blip r:embed="rId5"/>
            <a:stretch/>
          </p:blipFill>
          <p:spPr>
            <a:xfrm>
              <a:off x="4800600" y="4724280"/>
              <a:ext cx="2590920" cy="17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13" descr="bs00272_"/>
            <p:cNvPicPr/>
            <p:nvPr/>
          </p:nvPicPr>
          <p:blipFill>
            <a:blip r:embed="rId6"/>
            <a:stretch/>
          </p:blipFill>
          <p:spPr>
            <a:xfrm>
              <a:off x="2438280" y="4952880"/>
              <a:ext cx="2057400" cy="139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Picture 14" descr="MCj04349290000[1]"/>
            <p:cNvPicPr/>
            <p:nvPr/>
          </p:nvPicPr>
          <p:blipFill>
            <a:blip r:embed="rId7"/>
            <a:stretch/>
          </p:blipFill>
          <p:spPr>
            <a:xfrm>
              <a:off x="762120" y="1905120"/>
              <a:ext cx="198108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Picture 15" descr="head"/>
            <p:cNvPicPr/>
            <p:nvPr/>
          </p:nvPicPr>
          <p:blipFill>
            <a:blip r:embed="rId8"/>
            <a:stretch/>
          </p:blipFill>
          <p:spPr>
            <a:xfrm>
              <a:off x="6075360" y="1905120"/>
              <a:ext cx="1211400" cy="16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9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B4FE-75BE-4F38-B839-9CE461A9D1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Footer Placeholder 9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14520" y="526680"/>
            <a:ext cx="791496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вы сможе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ть процесс для подготовки сотрудников своей лаборатории к внешнему ауди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нировать программу внутренних аудитов и управлять 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удить, как использовать результаты ауди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ргументировать важность проведения корректир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9FDE-DF18-4D44-BCF4-2A68564A90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AutoShape 2"/>
          <p:cNvSpPr/>
          <p:nvPr/>
        </p:nvSpPr>
        <p:spPr>
          <a:xfrm rot="16200000">
            <a:off x="3601800" y="3103560"/>
            <a:ext cx="3463920" cy="609480"/>
          </a:xfrm>
          <a:prstGeom prst="rightArrow">
            <a:avLst>
              <a:gd name="adj1" fmla="val 50000"/>
              <a:gd name="adj2" fmla="val 171581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AutoShape 3"/>
          <p:cNvSpPr/>
          <p:nvPr/>
        </p:nvSpPr>
        <p:spPr>
          <a:xfrm>
            <a:off x="5105520" y="4267080"/>
            <a:ext cx="274320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Rectangle 4"/>
          <p:cNvSpPr/>
          <p:nvPr/>
        </p:nvSpPr>
        <p:spPr>
          <a:xfrm>
            <a:off x="1066680" y="609480"/>
            <a:ext cx="7010640" cy="990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Text Box 5"/>
          <p:cNvSpPr/>
          <p:nvPr/>
        </p:nvSpPr>
        <p:spPr>
          <a:xfrm>
            <a:off x="1066680" y="78732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Руководитель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AutoShape 6"/>
          <p:cNvSpPr/>
          <p:nvPr/>
        </p:nvSpPr>
        <p:spPr>
          <a:xfrm>
            <a:off x="762120" y="228600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Oval 7"/>
          <p:cNvSpPr/>
          <p:nvPr/>
        </p:nvSpPr>
        <p:spPr>
          <a:xfrm>
            <a:off x="380880" y="449568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Rectangle 8"/>
          <p:cNvSpPr/>
          <p:nvPr/>
        </p:nvSpPr>
        <p:spPr>
          <a:xfrm>
            <a:off x="5791320" y="2879640"/>
            <a:ext cx="2895480" cy="14637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Text Box 9"/>
          <p:cNvSpPr/>
          <p:nvPr/>
        </p:nvSpPr>
        <p:spPr>
          <a:xfrm>
            <a:off x="914400" y="2286000"/>
            <a:ext cx="3048120" cy="1410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определяет правила внутренних ауди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Text Box 10"/>
          <p:cNvSpPr/>
          <p:nvPr/>
        </p:nvSpPr>
        <p:spPr>
          <a:xfrm>
            <a:off x="457200" y="4648320"/>
            <a:ext cx="396252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распределяе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бязан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по программ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внутренних аудитов</a:t>
            </a:r>
            <a:br>
              <a:rPr sz="1800"/>
            </a:br>
            <a:r>
              <a:rPr b="1" lang="ru-RU" sz="1800" spc="-1" strike="noStrike">
                <a:solidFill>
                  <a:srgbClr val="ff6600"/>
                </a:solidFill>
                <a:latin typeface="Verdana"/>
              </a:rPr>
              <a:t>Менеджер по качеств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Text Box 11"/>
          <p:cNvSpPr/>
          <p:nvPr/>
        </p:nvSpPr>
        <p:spPr>
          <a:xfrm>
            <a:off x="5257800" y="48960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 внутренних ауди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Text Box 12"/>
          <p:cNvSpPr/>
          <p:nvPr/>
        </p:nvSpPr>
        <p:spPr>
          <a:xfrm>
            <a:off x="5791320" y="2921040"/>
            <a:ext cx="29718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поддерживает проведение  корректирующих 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AutoShape 13"/>
          <p:cNvSpPr/>
          <p:nvPr/>
        </p:nvSpPr>
        <p:spPr>
          <a:xfrm rot="5400000">
            <a:off x="2018880" y="1409760"/>
            <a:ext cx="685800" cy="1066680"/>
          </a:xfrm>
          <a:custGeom>
            <a:avLst/>
            <a:gdLst>
              <a:gd name="textAreaLeft" fmla="*/ 106920 w 685800"/>
              <a:gd name="textAreaRight" fmla="*/ 600120 w 68580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AutoShape 14"/>
          <p:cNvSpPr/>
          <p:nvPr/>
        </p:nvSpPr>
        <p:spPr>
          <a:xfrm rot="5400000">
            <a:off x="2018880" y="3543120"/>
            <a:ext cx="761760" cy="1143000"/>
          </a:xfrm>
          <a:custGeom>
            <a:avLst/>
            <a:gdLst>
              <a:gd name="textAreaLeft" fmla="*/ 118800 w 761760"/>
              <a:gd name="textAreaRight" fmla="*/ 666720 w 76176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AutoShape 15"/>
          <p:cNvSpPr/>
          <p:nvPr/>
        </p:nvSpPr>
        <p:spPr>
          <a:xfrm rot="5400000">
            <a:off x="6514920" y="1638360"/>
            <a:ext cx="1066680" cy="114300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AutoShape 16"/>
          <p:cNvSpPr/>
          <p:nvPr/>
        </p:nvSpPr>
        <p:spPr>
          <a:xfrm>
            <a:off x="4038480" y="5486400"/>
            <a:ext cx="1295640" cy="457200"/>
          </a:xfrm>
          <a:prstGeom prst="rightArrow">
            <a:avLst>
              <a:gd name="adj1" fmla="val 50000"/>
              <a:gd name="adj2" fmla="val 75018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AutoShape 19"/>
          <p:cNvSpPr/>
          <p:nvPr/>
        </p:nvSpPr>
        <p:spPr>
          <a:xfrm>
            <a:off x="457200" y="5486400"/>
            <a:ext cx="387360" cy="533520"/>
          </a:xfrm>
          <a:custGeom>
            <a:avLst/>
            <a:gdLst>
              <a:gd name="textAreaLeft" fmla="*/ 60480 w 387360"/>
              <a:gd name="textAreaRight" fmla="*/ 339120 w 387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Slide Number Placeholder 1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128B-1240-453D-8BE9-2129B40B44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Footer Placeholder 18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Text Box 2"/>
          <p:cNvSpPr/>
          <p:nvPr/>
        </p:nvSpPr>
        <p:spPr>
          <a:xfrm>
            <a:off x="304920" y="609480"/>
            <a:ext cx="8458200" cy="1014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Verdana"/>
              </a:rPr>
              <a:t>Обязанности менеджера по качеств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ввести и поддерживать систему внутренних аудит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Oval 3"/>
          <p:cNvSpPr/>
          <p:nvPr/>
        </p:nvSpPr>
        <p:spPr>
          <a:xfrm>
            <a:off x="3048120" y="2438280"/>
            <a:ext cx="3124080" cy="16002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1" name="Text Box 4"/>
          <p:cNvSpPr/>
          <p:nvPr/>
        </p:nvSpPr>
        <p:spPr>
          <a:xfrm>
            <a:off x="3200400" y="281952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координирова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ь</a:t>
            </a: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 процесс ауди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AutoShape 7"/>
          <p:cNvSpPr/>
          <p:nvPr/>
        </p:nvSpPr>
        <p:spPr>
          <a:xfrm rot="5400000">
            <a:off x="4228920" y="1638360"/>
            <a:ext cx="609840" cy="838080"/>
          </a:xfrm>
          <a:custGeom>
            <a:avLst/>
            <a:gdLst>
              <a:gd name="textAreaLeft" fmla="*/ 95040 w 609840"/>
              <a:gd name="textAreaRight" fmla="*/ 533880 w 6098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AutoShape 10"/>
          <p:cNvSpPr/>
          <p:nvPr/>
        </p:nvSpPr>
        <p:spPr>
          <a:xfrm>
            <a:off x="3429000" y="4419720"/>
            <a:ext cx="2286000" cy="167616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Oval 11"/>
          <p:cNvSpPr/>
          <p:nvPr/>
        </p:nvSpPr>
        <p:spPr>
          <a:xfrm>
            <a:off x="6705720" y="5029200"/>
            <a:ext cx="2133360" cy="11430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5" name="Oval 12"/>
          <p:cNvSpPr/>
          <p:nvPr/>
        </p:nvSpPr>
        <p:spPr>
          <a:xfrm>
            <a:off x="380880" y="5105520"/>
            <a:ext cx="1981440" cy="990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Text Box 13"/>
          <p:cNvSpPr/>
          <p:nvPr/>
        </p:nvSpPr>
        <p:spPr>
          <a:xfrm>
            <a:off x="457200" y="51814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тчет сотрудника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Text Box 14"/>
          <p:cNvSpPr/>
          <p:nvPr/>
        </p:nvSpPr>
        <p:spPr>
          <a:xfrm>
            <a:off x="6781680" y="5226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тчет руководств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AutoShape 16"/>
          <p:cNvSpPr/>
          <p:nvPr/>
        </p:nvSpPr>
        <p:spPr>
          <a:xfrm>
            <a:off x="5410080" y="5410080"/>
            <a:ext cx="1371600" cy="45720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AutoShape 17"/>
          <p:cNvSpPr/>
          <p:nvPr/>
        </p:nvSpPr>
        <p:spPr>
          <a:xfrm rot="10800000">
            <a:off x="228600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AutoShape 21"/>
          <p:cNvSpPr/>
          <p:nvPr/>
        </p:nvSpPr>
        <p:spPr>
          <a:xfrm>
            <a:off x="152280" y="2651040"/>
            <a:ext cx="2133720" cy="7779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Text Box 22"/>
          <p:cNvSpPr/>
          <p:nvPr/>
        </p:nvSpPr>
        <p:spPr>
          <a:xfrm>
            <a:off x="228600" y="26668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разработать 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графи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AutoShape 23"/>
          <p:cNvSpPr/>
          <p:nvPr/>
        </p:nvSpPr>
        <p:spPr>
          <a:xfrm rot="11374200">
            <a:off x="2199960" y="2861640"/>
            <a:ext cx="1000080" cy="555480"/>
          </a:xfrm>
          <a:custGeom>
            <a:avLst/>
            <a:gdLst>
              <a:gd name="textAreaLeft" fmla="*/ 156240 w 1000080"/>
              <a:gd name="textAreaRight" fmla="*/ 875160 w 10000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3" name="AutoShape 24"/>
          <p:cNvSpPr/>
          <p:nvPr/>
        </p:nvSpPr>
        <p:spPr>
          <a:xfrm>
            <a:off x="152280" y="3565440"/>
            <a:ext cx="2133720" cy="990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Text Box 25"/>
          <p:cNvSpPr/>
          <p:nvPr/>
        </p:nvSpPr>
        <p:spPr>
          <a:xfrm>
            <a:off x="304920" y="356544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выбрать и</a:t>
            </a: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обучить аудитор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AutoShape 26"/>
          <p:cNvSpPr/>
          <p:nvPr/>
        </p:nvSpPr>
        <p:spPr>
          <a:xfrm rot="9818400">
            <a:off x="2244240" y="3549600"/>
            <a:ext cx="954360" cy="555840"/>
          </a:xfrm>
          <a:custGeom>
            <a:avLst/>
            <a:gdLst>
              <a:gd name="textAreaLeft" fmla="*/ 149040 w 954360"/>
              <a:gd name="textAreaRight" fmla="*/ 835200 w 954360"/>
              <a:gd name="textAreaTop" fmla="*/ 138960 h 555840"/>
              <a:gd name="textAreaBottom" fmla="*/ 416880 h 5558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Slide Number Placeholder 2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183A-E4D7-43F6-8D55-F941908D92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Footer Placeholder 2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AutoShape 31"/>
          <p:cNvSpPr/>
          <p:nvPr/>
        </p:nvSpPr>
        <p:spPr>
          <a:xfrm>
            <a:off x="6451560" y="2743200"/>
            <a:ext cx="2387520" cy="9810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Text Box 5"/>
          <p:cNvSpPr/>
          <p:nvPr/>
        </p:nvSpPr>
        <p:spPr>
          <a:xfrm>
            <a:off x="6451560" y="2819520"/>
            <a:ext cx="24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Verdana"/>
              </a:rPr>
              <a:t>управлять корректирующими действия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AutoShape 6"/>
          <p:cNvSpPr/>
          <p:nvPr/>
        </p:nvSpPr>
        <p:spPr>
          <a:xfrm rot="19251600">
            <a:off x="5284800" y="4073040"/>
            <a:ext cx="2023920" cy="484200"/>
          </a:xfrm>
          <a:custGeom>
            <a:avLst/>
            <a:gdLst>
              <a:gd name="textAreaLeft" fmla="*/ 316080 w 2023920"/>
              <a:gd name="textAreaRight" fmla="*/ 1771200 w 202392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TextBox 1"/>
          <p:cNvSpPr/>
          <p:nvPr/>
        </p:nvSpPr>
        <p:spPr>
          <a:xfrm>
            <a:off x="3726360" y="4851360"/>
            <a:ext cx="184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езультат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нутренних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уди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внутренних аудитов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142640" y="1294920"/>
            <a:ext cx="762012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пла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контрольные спис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водное собр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и проанализируйте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шите результа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заключительное собр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че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F6D2-B7B1-4F9A-862E-71C2D3CAB7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Picture 1" descr=""/>
          <p:cNvPicPr/>
          <p:nvPr/>
        </p:nvPicPr>
        <p:blipFill>
          <a:blip r:embed="rId1"/>
          <a:stretch/>
        </p:blipFill>
        <p:spPr>
          <a:xfrm>
            <a:off x="3171960" y="3726000"/>
            <a:ext cx="2752560" cy="2557440"/>
          </a:xfrm>
          <a:prstGeom prst="rect">
            <a:avLst/>
          </a:prstGeom>
          <a:ln w="0">
            <a:noFill/>
          </a:ln>
        </p:spPr>
      </p:pic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ите график ауди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33520" y="1380600"/>
            <a:ext cx="8229600" cy="22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одите регуляр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олее частые аудиты там, где проблемы, или на участках, нуждающихся в улучшен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шаг за шагом аудиты должны рассмотреть все элементы системы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9" name="Diagram 2"/>
          <p:cNvGrpSpPr/>
          <p:nvPr/>
        </p:nvGrpSpPr>
        <p:grpSpPr>
          <a:xfrm>
            <a:off x="2989440" y="3763800"/>
            <a:ext cx="2876760" cy="2556720"/>
            <a:chOff x="2989440" y="3763800"/>
            <a:chExt cx="2876760" cy="2556720"/>
          </a:xfrm>
        </p:grpSpPr>
        <p:sp>
          <p:nvSpPr>
            <p:cNvPr id="950" name="_s2052"/>
            <p:cNvSpPr/>
            <p:nvPr/>
          </p:nvSpPr>
          <p:spPr>
            <a:xfrm>
              <a:off x="3535920" y="3907080"/>
              <a:ext cx="2026080" cy="1960560"/>
            </a:xfrm>
            <a:custGeom>
              <a:avLst/>
              <a:gdLst>
                <a:gd name="textAreaLeft" fmla="*/ 297000 w 2026080"/>
                <a:gd name="textAreaRight" fmla="*/ 1729080 w 2026080"/>
                <a:gd name="textAreaTop" fmla="*/ 286560 h 1960560"/>
                <a:gd name="textAreaBottom" fmla="*/ 1674000 h 196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1" name="_s2053"/>
            <p:cNvSpPr/>
            <p:nvPr/>
          </p:nvSpPr>
          <p:spPr>
            <a:xfrm rot="5695200">
              <a:off x="3698640" y="4101120"/>
              <a:ext cx="1829880" cy="2356920"/>
            </a:xfrm>
            <a:custGeom>
              <a:avLst/>
              <a:gdLst>
                <a:gd name="textAreaLeft" fmla="*/ 267840 w 1829880"/>
                <a:gd name="textAreaRight" fmla="*/ 1562040 w 1829880"/>
                <a:gd name="textAreaTop" fmla="*/ 344880 h 2356920"/>
                <a:gd name="textAreaBottom" fmla="*/ 2012040 h 23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2" name="_s2054"/>
            <p:cNvSpPr/>
            <p:nvPr/>
          </p:nvSpPr>
          <p:spPr>
            <a:xfrm rot="15971400">
              <a:off x="3524040" y="4209120"/>
              <a:ext cx="1839960" cy="2238120"/>
            </a:xfrm>
            <a:custGeom>
              <a:avLst/>
              <a:gdLst>
                <a:gd name="textAreaLeft" fmla="*/ 269640 w 1839960"/>
                <a:gd name="textAreaRight" fmla="*/ 1570320 w 1839960"/>
                <a:gd name="textAreaTop" fmla="*/ 327600 h 2238120"/>
                <a:gd name="textAreaBottom" fmla="*/ 1910520 h 223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3" name="_s2055"/>
            <p:cNvSpPr/>
            <p:nvPr/>
          </p:nvSpPr>
          <p:spPr>
            <a:xfrm>
              <a:off x="4912200" y="376380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4" name="_s2056"/>
            <p:cNvSpPr/>
            <p:nvPr/>
          </p:nvSpPr>
          <p:spPr>
            <a:xfrm>
              <a:off x="3950640" y="5275440"/>
              <a:ext cx="81324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5" name="_s2057"/>
            <p:cNvSpPr/>
            <p:nvPr/>
          </p:nvSpPr>
          <p:spPr>
            <a:xfrm>
              <a:off x="2989440" y="376380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5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EC15-3A2A-4DF1-A019-8E29093F44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21920" y="448920"/>
            <a:ext cx="79153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874800" y="1477800"/>
            <a:ext cx="5449680" cy="19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контрольные спис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разработайте формы для записи корректирующих действий и для отче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0" name="Picture 5" descr="MCj04349290000[1]"/>
          <p:cNvPicPr/>
          <p:nvPr/>
        </p:nvPicPr>
        <p:blipFill>
          <a:blip r:embed="rId1"/>
          <a:stretch/>
        </p:blipFill>
        <p:spPr>
          <a:xfrm>
            <a:off x="6629400" y="10666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961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B57B-4CB5-4A3F-9B9E-B4D6F04F2C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3" name="Picture 2" descr=""/>
          <p:cNvPicPr/>
          <p:nvPr/>
        </p:nvPicPr>
        <p:blipFill>
          <a:blip r:embed="rId2"/>
          <a:stretch/>
        </p:blipFill>
        <p:spPr>
          <a:xfrm>
            <a:off x="2998800" y="3892680"/>
            <a:ext cx="3021120" cy="232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4" name="Diagram 2"/>
          <p:cNvGrpSpPr/>
          <p:nvPr/>
        </p:nvGrpSpPr>
        <p:grpSpPr>
          <a:xfrm>
            <a:off x="609480" y="758880"/>
            <a:ext cx="7878240" cy="5334840"/>
            <a:chOff x="609480" y="758880"/>
            <a:chExt cx="7878240" cy="5334840"/>
          </a:xfrm>
        </p:grpSpPr>
        <p:sp>
          <p:nvSpPr>
            <p:cNvPr id="965" name="_s3076"/>
            <p:cNvSpPr/>
            <p:nvPr/>
          </p:nvSpPr>
          <p:spPr>
            <a:xfrm flipH="1" flipV="1">
              <a:off x="2869560" y="3141360"/>
              <a:ext cx="925920" cy="21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6" name="_s3077"/>
            <p:cNvSpPr/>
            <p:nvPr/>
          </p:nvSpPr>
          <p:spPr>
            <a:xfrm>
              <a:off x="609480" y="2219400"/>
              <a:ext cx="2306160" cy="1410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Эффективное взаимодействие с людьм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7" name="_s3078"/>
            <p:cNvSpPr/>
            <p:nvPr/>
          </p:nvSpPr>
          <p:spPr>
            <a:xfrm flipH="1">
              <a:off x="3578040" y="4150440"/>
              <a:ext cx="571320" cy="569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8" name="_s3079"/>
            <p:cNvSpPr/>
            <p:nvPr/>
          </p:nvSpPr>
          <p:spPr>
            <a:xfrm>
              <a:off x="1764000" y="4682880"/>
              <a:ext cx="2216880" cy="1410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омпетентность: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Специальные знания</a:t>
              </a:r>
              <a:r>
                <a:rPr b="1" lang="en-US" sz="1700" spc="-1" strike="noStrike">
                  <a:solidFill>
                    <a:srgbClr val="000000"/>
                  </a:solidFill>
                  <a:latin typeface="Verdana"/>
                </a:rPr>
                <a:t>/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Управление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ачеством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9" name="_s3080"/>
            <p:cNvSpPr/>
            <p:nvPr/>
          </p:nvSpPr>
          <p:spPr>
            <a:xfrm>
              <a:off x="5298480" y="4150440"/>
              <a:ext cx="574560" cy="569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0" name="_s3081"/>
            <p:cNvSpPr/>
            <p:nvPr/>
          </p:nvSpPr>
          <p:spPr>
            <a:xfrm>
              <a:off x="5561640" y="4682880"/>
              <a:ext cx="2286000" cy="1410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Дипломатичный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1" name="_s3082"/>
            <p:cNvSpPr/>
            <p:nvPr/>
          </p:nvSpPr>
          <p:spPr>
            <a:xfrm flipV="1">
              <a:off x="5652720" y="3143880"/>
              <a:ext cx="928440" cy="2181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2" name="_s3083"/>
            <p:cNvSpPr/>
            <p:nvPr/>
          </p:nvSpPr>
          <p:spPr>
            <a:xfrm>
              <a:off x="6532920" y="2219400"/>
              <a:ext cx="1954800" cy="1410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ученный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3" name="_s3084"/>
            <p:cNvSpPr/>
            <p:nvPr/>
          </p:nvSpPr>
          <p:spPr>
            <a:xfrm flipV="1">
              <a:off x="4724280" y="2169360"/>
              <a:ext cx="0" cy="705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4" name="_s3085"/>
            <p:cNvSpPr/>
            <p:nvPr/>
          </p:nvSpPr>
          <p:spPr>
            <a:xfrm>
              <a:off x="3746880" y="758880"/>
              <a:ext cx="1954080" cy="1410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Внимание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 деталям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5" name="_s3086"/>
            <p:cNvSpPr/>
            <p:nvPr/>
          </p:nvSpPr>
          <p:spPr>
            <a:xfrm>
              <a:off x="3746880" y="2875320"/>
              <a:ext cx="1954080" cy="1411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76" name="Picture 15" descr="bs01872_"/>
          <p:cNvPicPr/>
          <p:nvPr/>
        </p:nvPicPr>
        <p:blipFill>
          <a:blip r:embed="rId7"/>
          <a:stretch/>
        </p:blipFill>
        <p:spPr>
          <a:xfrm>
            <a:off x="1752480" y="685800"/>
            <a:ext cx="2057400" cy="14652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6" descr="MCj02352750000[1]"/>
          <p:cNvPicPr/>
          <p:nvPr/>
        </p:nvPicPr>
        <p:blipFill>
          <a:blip r:embed="rId8"/>
          <a:stretch/>
        </p:blipFill>
        <p:spPr>
          <a:xfrm>
            <a:off x="3962520" y="457200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7" descr="MCj02341200000[1]"/>
          <p:cNvPicPr/>
          <p:nvPr/>
        </p:nvPicPr>
        <p:blipFill>
          <a:blip r:embed="rId9"/>
          <a:stretch/>
        </p:blipFill>
        <p:spPr>
          <a:xfrm>
            <a:off x="7086600" y="3657600"/>
            <a:ext cx="1555920" cy="175248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8" descr="bd20208_"/>
          <p:cNvPicPr/>
          <p:nvPr/>
        </p:nvPicPr>
        <p:blipFill>
          <a:blip r:embed="rId10"/>
          <a:stretch/>
        </p:blipFill>
        <p:spPr>
          <a:xfrm>
            <a:off x="6019920" y="758880"/>
            <a:ext cx="2278080" cy="1434960"/>
          </a:xfrm>
          <a:prstGeom prst="rect">
            <a:avLst/>
          </a:prstGeom>
          <a:ln w="0">
            <a:noFill/>
          </a:ln>
        </p:spPr>
      </p:pic>
      <p:sp>
        <p:nvSpPr>
          <p:cNvPr id="980" name="Text Box 20"/>
          <p:cNvSpPr/>
          <p:nvPr/>
        </p:nvSpPr>
        <p:spPr>
          <a:xfrm>
            <a:off x="3581280" y="2590920"/>
            <a:ext cx="2322720" cy="1697040"/>
          </a:xfrm>
          <a:prstGeom prst="rect">
            <a:avLst/>
          </a:prstGeom>
          <a:solidFill>
            <a:srgbClr val="99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Verdana"/>
              </a:rPr>
              <a:t>Навыки, нужные аудитора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D530-318E-4EA8-8443-180161E47C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Footer Placeholder 9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3" name="Picture 12" descr="pe03301_"/>
          <p:cNvPicPr/>
          <p:nvPr/>
        </p:nvPicPr>
        <p:blipFill>
          <a:blip r:embed="rId11"/>
          <a:stretch/>
        </p:blipFill>
        <p:spPr>
          <a:xfrm>
            <a:off x="349200" y="3429000"/>
            <a:ext cx="140328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AutoShape 2"/>
          <p:cNvSpPr/>
          <p:nvPr/>
        </p:nvSpPr>
        <p:spPr>
          <a:xfrm>
            <a:off x="1523880" y="182880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AutoShape 3"/>
          <p:cNvSpPr/>
          <p:nvPr/>
        </p:nvSpPr>
        <p:spPr>
          <a:xfrm rot="5400000">
            <a:off x="2019240" y="3009960"/>
            <a:ext cx="914400" cy="1295280"/>
          </a:xfrm>
          <a:custGeom>
            <a:avLst/>
            <a:gdLst>
              <a:gd name="textAreaLeft" fmla="*/ 142920 w 914400"/>
              <a:gd name="textAreaRight" fmla="*/ 800280 w 9144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удит должен приводить к действия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AutoShape 5"/>
          <p:cNvSpPr/>
          <p:nvPr/>
        </p:nvSpPr>
        <p:spPr>
          <a:xfrm>
            <a:off x="990720" y="4419720"/>
            <a:ext cx="3047760" cy="14475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ит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озможности для улучшен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AutoShape 6"/>
          <p:cNvSpPr/>
          <p:nvPr/>
        </p:nvSpPr>
        <p:spPr>
          <a:xfrm rot="20101800">
            <a:off x="3879360" y="3516120"/>
            <a:ext cx="2038320" cy="1295280"/>
          </a:xfrm>
          <a:custGeom>
            <a:avLst/>
            <a:gdLst>
              <a:gd name="textAreaLeft" fmla="*/ 318240 w 2038320"/>
              <a:gd name="textAreaRight" fmla="*/ 1783800 w 203832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AutoShape 7"/>
          <p:cNvSpPr/>
          <p:nvPr/>
        </p:nvSpPr>
        <p:spPr>
          <a:xfrm>
            <a:off x="5791320" y="1828800"/>
            <a:ext cx="3200400" cy="312408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Действуй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D8A9-3F78-4C91-AEB7-44F9F86F61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Footer Placeholder 8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рректирующие действ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993" name="Picture 4" descr="j0435880"/>
          <p:cNvPicPr/>
          <p:nvPr/>
        </p:nvPicPr>
        <p:blipFill>
          <a:blip r:embed="rId1"/>
          <a:stretch/>
        </p:blipFill>
        <p:spPr>
          <a:xfrm>
            <a:off x="5257800" y="2743200"/>
            <a:ext cx="3124080" cy="2705040"/>
          </a:xfrm>
          <a:prstGeom prst="rect">
            <a:avLst/>
          </a:prstGeom>
          <a:ln w="0">
            <a:noFill/>
          </a:ln>
        </p:spPr>
      </p:pic>
      <p:sp>
        <p:nvSpPr>
          <p:cNvPr id="994" name="Text Box 6"/>
          <p:cNvSpPr/>
          <p:nvPr/>
        </p:nvSpPr>
        <p:spPr>
          <a:xfrm>
            <a:off x="457200" y="4800600"/>
            <a:ext cx="5791320" cy="106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то ответственны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? </a:t>
            </a:r>
            <a:br>
              <a:rPr sz="3200"/>
            </a:br>
            <a:r>
              <a:rPr b="1" lang="ru-RU" sz="3200" spc="-1" strike="noStrike">
                <a:solidFill>
                  <a:srgbClr val="008000"/>
                </a:solidFill>
                <a:latin typeface="Verdana"/>
              </a:rPr>
              <a:t>Менеджер по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AB69-4496-4EF1-B565-7B57EAAADA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85440" y="1999800"/>
            <a:ext cx="7467480" cy="15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то шаги, предпринятые для улучшения процессов или исправления недостатк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корректирующих действи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736200" y="1887120"/>
            <a:ext cx="810252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командой по разрешению пробле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йдите корневую причину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план соответствующих корректир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дите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х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записи всех действий и вывод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наблюде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4852-8641-4479-B61C-04F6054C11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Форма регистрации возможностей для улучше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3" name="Rectangle 67"/>
          <p:cNvSpPr/>
          <p:nvPr/>
        </p:nvSpPr>
        <p:spPr>
          <a:xfrm>
            <a:off x="609480" y="7162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Rectangle 79"/>
          <p:cNvSpPr/>
          <p:nvPr/>
        </p:nvSpPr>
        <p:spPr>
          <a:xfrm>
            <a:off x="1676520" y="1984320"/>
            <a:ext cx="5715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тирующие действия являются результатом: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__   ___   _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ытия                   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   __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   ___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___      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нутреннего аудита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   _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   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   __   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нешнего аудита     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   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   __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05" name=""/>
          <p:cNvGraphicFramePr/>
          <p:nvPr/>
        </p:nvGraphicFramePr>
        <p:xfrm>
          <a:off x="1676520" y="2975040"/>
          <a:ext cx="5716440" cy="1747800"/>
        </p:xfrm>
        <a:graphic>
          <a:graphicData uri="http://schemas.openxmlformats.org/drawingml/2006/table">
            <a:tbl>
              <a:tblPr/>
              <a:tblGrid>
                <a:gridCol w="5716440"/>
              </a:tblGrid>
              <a:tr h="38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проблемы или выводов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то случилось и почему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бщено: (Имя сотрудника) 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06" name=""/>
          <p:cNvGraphicFramePr/>
          <p:nvPr/>
        </p:nvGraphicFramePr>
        <p:xfrm>
          <a:off x="1676520" y="4905360"/>
          <a:ext cx="5715000" cy="1206360"/>
        </p:xfrm>
        <a:graphic>
          <a:graphicData uri="http://schemas.openxmlformats.org/drawingml/2006/table">
            <a:tbl>
              <a:tblPr/>
              <a:tblGrid>
                <a:gridCol w="571500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ные корректирующие действия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то было сделано, чтобы предотвратить повторение?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07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6DBC-D1B3-4154-8F0F-96BAF541F5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TextBox 1"/>
          <p:cNvSpPr/>
          <p:nvPr/>
        </p:nvSpPr>
        <p:spPr>
          <a:xfrm>
            <a:off x="3059640" y="1752480"/>
            <a:ext cx="29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корректирующих действ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33520" y="1952280"/>
            <a:ext cx="815328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ы являетесь менеджером по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ачеству в лаборатории 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хотите организовать внутренни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удит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Какие шаги вы предпримете</a:t>
            </a: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0126-E490-4EFF-895B-998D478C45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6BEF-9B4E-4FF2-BAA3-FCF16476AB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Oval 9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Text Box 10"/>
          <p:cNvSpPr/>
          <p:nvPr/>
        </p:nvSpPr>
        <p:spPr>
          <a:xfrm>
            <a:off x="2438280" y="190512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Постоянное отслеживание –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это ключ к успеху в системе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4" name="Picture 4" descr="MCj04326350000[1]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5" descr="MCj02153560000[1]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7" descr="MCj01567530000[1]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1EF5-A405-4587-8A0C-2B84DF4243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19" name="Diagram 46"/>
          <p:cNvGrpSpPr/>
          <p:nvPr/>
        </p:nvGrpSpPr>
        <p:grpSpPr>
          <a:xfrm>
            <a:off x="533520" y="533520"/>
            <a:ext cx="8229240" cy="6152040"/>
            <a:chOff x="533520" y="533520"/>
            <a:chExt cx="8229240" cy="6152040"/>
          </a:xfrm>
        </p:grpSpPr>
        <p:sp>
          <p:nvSpPr>
            <p:cNvPr id="1020" name="AutoShape 45"/>
            <p:cNvSpPr/>
            <p:nvPr/>
          </p:nvSpPr>
          <p:spPr>
            <a:xfrm>
              <a:off x="533520" y="533520"/>
              <a:ext cx="8229240" cy="58017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1" name="_s1028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780120 w 5317200"/>
                <a:gd name="textAreaRight" fmla="*/ 4537080 w 5317200"/>
                <a:gd name="textAreaTop" fmla="*/ 549720 h 3748680"/>
                <a:gd name="textAreaBottom" fmla="*/ 319896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2" name="_s1029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549720 w 3748680"/>
                <a:gd name="textAreaRight" fmla="*/ 3198960 w 3748680"/>
                <a:gd name="textAreaTop" fmla="*/ 780120 h 5317920"/>
                <a:gd name="textAreaBottom" fmla="*/ 453780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3" name="_s1030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549720 w 3748680"/>
                <a:gd name="textAreaRight" fmla="*/ 3198960 w 3748680"/>
                <a:gd name="textAreaTop" fmla="*/ 780120 h 5317200"/>
                <a:gd name="textAreaBottom" fmla="*/ 453708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4" name="_s1031"/>
            <p:cNvSpPr/>
            <p:nvPr/>
          </p:nvSpPr>
          <p:spPr>
            <a:xfrm>
              <a:off x="533520" y="1470600"/>
              <a:ext cx="2896920" cy="22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1e21f"/>
                  </a:solidFill>
                  <a:latin typeface="Verdana"/>
                </a:rPr>
                <a:t>Отслеживание</a:t>
              </a:r>
              <a:r>
                <a:rPr b="1" lang="en-US" sz="2000" spc="-1" strike="noStrike">
                  <a:solidFill>
                    <a:srgbClr val="f1e21f"/>
                  </a:solidFill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1e21f"/>
                  </a:solidFill>
                  <a:latin typeface="Verdana"/>
                </a:rPr>
                <a:t>и оценка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удовлетворенность клиентов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контроль качеств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проверк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компетентност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аудит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5" name="_s1032"/>
            <p:cNvSpPr/>
            <p:nvPr/>
          </p:nvSpPr>
          <p:spPr>
            <a:xfrm>
              <a:off x="3582000" y="4735800"/>
              <a:ext cx="243756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1e21f"/>
                  </a:solidFill>
                  <a:latin typeface="Verdana"/>
                  <a:ea typeface="Times New Roman"/>
                </a:rPr>
                <a:t>План корректирующих действий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6" name="_s1033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1e21f"/>
                  </a:solidFill>
                  <a:latin typeface="Verdana"/>
                </a:rPr>
                <a:t>План по улучшению качеств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7" name="Text Box 65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епрерывное улучшение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E7C2-4A5C-4F4D-B991-D9CF15AD28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Text Box 2"/>
          <p:cNvSpPr/>
          <p:nvPr/>
        </p:nvSpPr>
        <p:spPr>
          <a:xfrm>
            <a:off x="685800" y="914400"/>
            <a:ext cx="7696080" cy="48942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«Важно не то, что вы обнаружили…,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важно то, что вы сделали с тем, что вы обнаружили"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Филип Кросб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6840" y="1181160"/>
            <a:ext cx="839484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ажная роль оценки – в отслеживании эффективности системы управления качеством в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 внешние, и внутренние аудиты дают полезную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результатам оценки выявляют корневые причины проблем и проводят корректирующие 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3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DB10-1E12-4915-A261-23860CCC7E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4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лаборатории должны организовать программу внутренних аудитов. При регулярном проведении программа будет предоставлять информацию для непрерывного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лемы превратятся в возможности для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20E8-5A9E-47A0-BD1F-FBEFCCBBDF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5810-9407-4A70-A040-AB57BB7264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04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04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5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05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05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05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06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6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06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06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06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7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7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7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07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7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7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07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8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8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08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8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08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8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9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09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09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09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9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5B37-445E-4120-9578-EA54A0DCFB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7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67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8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9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3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9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69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69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69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9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95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9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69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0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70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70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0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05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0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707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0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1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71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1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1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71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1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719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2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3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2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72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2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728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3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731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733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6840" y="452520"/>
            <a:ext cx="791532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ценка –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удит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22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тический анализ некоторых (или всех) составных частей системы качеств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ие требования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6" name="Picture 34" descr="spy_guy"/>
          <p:cNvPicPr/>
          <p:nvPr/>
        </p:nvPicPr>
        <p:blipFill>
          <a:blip r:embed="rId1"/>
          <a:stretch/>
        </p:blipFill>
        <p:spPr>
          <a:xfrm>
            <a:off x="1752480" y="39625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737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C013-0B5A-4CE8-9417-58810AA9B3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9" name="Picture 1" descr=""/>
          <p:cNvPicPr/>
          <p:nvPr/>
        </p:nvPicPr>
        <p:blipFill>
          <a:blip r:embed="rId2"/>
          <a:stretch/>
        </p:blipFill>
        <p:spPr>
          <a:xfrm>
            <a:off x="4114800" y="3535200"/>
            <a:ext cx="3084480" cy="28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ubOvalCallout"/>
          <p:cNvSpPr/>
          <p:nvPr/>
        </p:nvSpPr>
        <p:spPr>
          <a:xfrm>
            <a:off x="457200" y="1523880"/>
            <a:ext cx="6172200" cy="4953240"/>
          </a:xfrm>
          <a:custGeom>
            <a:avLst/>
            <a:gdLst>
              <a:gd name="textAreaLeft" fmla="*/ 903600 w 6172200"/>
              <a:gd name="textAreaRight" fmla="*/ 5268600 w 6172200"/>
              <a:gd name="textAreaTop" fmla="*/ 544320 h 4953240"/>
              <a:gd name="textAreaBottom" fmla="*/ 3173040 h 495324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8"/>
                </a:lnTo>
                <a:cubicBezTo>
                  <a:pt x="9991" y="16192"/>
                  <a:pt x="10395" y="16210"/>
                  <a:pt x="10800" y="16210"/>
                </a:cubicBezTo>
                <a:cubicBezTo>
                  <a:pt x="16764" y="16210"/>
                  <a:pt x="21600" y="12581"/>
                  <a:pt x="21600" y="8105"/>
                </a:cubicBezTo>
                <a:cubicBezTo>
                  <a:pt x="21600" y="3628"/>
                  <a:pt x="16764" y="0"/>
                  <a:pt x="10800" y="0"/>
                </a:cubicBezTo>
                <a:cubicBezTo>
                  <a:pt x="4835" y="0"/>
                  <a:pt x="0" y="3628"/>
                  <a:pt x="0" y="8105"/>
                </a:cubicBezTo>
                <a:cubicBezTo>
                  <a:pt x="-1" y="10568"/>
                  <a:pt x="1493" y="12898"/>
                  <a:pt x="4057" y="14436"/>
                </a:cubicBezTo>
                <a:lnTo>
                  <a:pt x="12321" y="216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оценка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464796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Спрашивают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3" name="Picture 5" descr="j0234625"/>
          <p:cNvPicPr/>
          <p:nvPr/>
        </p:nvPicPr>
        <p:blipFill>
          <a:blip r:embed="rId1"/>
          <a:stretch/>
        </p:blipFill>
        <p:spPr>
          <a:xfrm>
            <a:off x="6516720" y="2438280"/>
            <a:ext cx="2322360" cy="2590920"/>
          </a:xfrm>
          <a:prstGeom prst="rect">
            <a:avLst/>
          </a:prstGeom>
          <a:ln w="0">
            <a:noFill/>
          </a:ln>
        </p:spPr>
      </p:pic>
      <p:sp>
        <p:nvSpPr>
          <p:cNvPr id="744" name="Text Box 6"/>
          <p:cNvSpPr/>
          <p:nvPr/>
        </p:nvSpPr>
        <p:spPr>
          <a:xfrm>
            <a:off x="1219320" y="2600280"/>
            <a:ext cx="548640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  <a:ea typeface="Arial"/>
              </a:rPr>
              <a:t>Что делается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  <a:ea typeface="Arial"/>
              </a:rPr>
              <a:t>Соответствует ли это задокументированным правилам и процедурам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5FCA-D7F8-4E29-9985-3074F9A514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6840" y="525240"/>
            <a:ext cx="79153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чего проводят оценку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6840" y="1592280"/>
            <a:ext cx="80010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нять, «где мы находимся»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отношении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ь расхожд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ить информацию дл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нирования и внедр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рол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ерывного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C5FE-AFB6-4BD2-A558-A5B3C6B36B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1" name="Picture 4" descr="MCBD19903_0000[1]"/>
          <p:cNvPicPr/>
          <p:nvPr/>
        </p:nvPicPr>
        <p:blipFill>
          <a:blip r:embed="rId1"/>
          <a:stretch/>
        </p:blipFill>
        <p:spPr>
          <a:xfrm>
            <a:off x="7086600" y="2873520"/>
            <a:ext cx="1905120" cy="17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Group 14"/>
          <p:cNvGrpSpPr/>
          <p:nvPr/>
        </p:nvGrpSpPr>
        <p:grpSpPr>
          <a:xfrm>
            <a:off x="685800" y="1219320"/>
            <a:ext cx="4495680" cy="4876560"/>
            <a:chOff x="685800" y="1219320"/>
            <a:chExt cx="4495680" cy="4876560"/>
          </a:xfrm>
        </p:grpSpPr>
        <p:pic>
          <p:nvPicPr>
            <p:cNvPr id="753" name="Picture 5" descr="lab_design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449568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Text Box 12"/>
            <p:cNvSpPr/>
            <p:nvPr/>
          </p:nvSpPr>
          <p:spPr>
            <a:xfrm>
              <a:off x="3803400" y="2560680"/>
              <a:ext cx="11520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5" name="TextBox 17"/>
            <p:cNvSpPr/>
            <p:nvPr/>
          </p:nvSpPr>
          <p:spPr>
            <a:xfrm>
              <a:off x="1357200" y="5286240"/>
              <a:ext cx="630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биохим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сер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6" name="TextBox 18"/>
            <p:cNvSpPr/>
            <p:nvPr/>
          </p:nvSpPr>
          <p:spPr>
            <a:xfrm>
              <a:off x="2688480" y="5384880"/>
              <a:ext cx="10098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ожидан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7" name="TextBox 19"/>
            <p:cNvSpPr/>
            <p:nvPr/>
          </p:nvSpPr>
          <p:spPr>
            <a:xfrm>
              <a:off x="2483280" y="4621320"/>
              <a:ext cx="76428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регистратур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8" name="TextBox 20"/>
            <p:cNvSpPr/>
            <p:nvPr/>
          </p:nvSpPr>
          <p:spPr>
            <a:xfrm>
              <a:off x="2192760" y="3795840"/>
              <a:ext cx="7293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гемат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9" name="TextBox 21"/>
            <p:cNvSpPr/>
            <p:nvPr/>
          </p:nvSpPr>
          <p:spPr>
            <a:xfrm>
              <a:off x="4411440" y="5478480"/>
              <a:ext cx="46404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туалет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0" name="TextBox 22"/>
            <p:cNvSpPr/>
            <p:nvPr/>
          </p:nvSpPr>
          <p:spPr>
            <a:xfrm>
              <a:off x="4383000" y="4538520"/>
              <a:ext cx="5727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бор проб крови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1" name="TextBox 23"/>
            <p:cNvSpPr/>
            <p:nvPr/>
          </p:nvSpPr>
          <p:spPr>
            <a:xfrm>
              <a:off x="3871800" y="3838680"/>
              <a:ext cx="922320" cy="41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бор гинекологических проб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2" name="TextBox 24"/>
            <p:cNvSpPr/>
            <p:nvPr/>
          </p:nvSpPr>
          <p:spPr>
            <a:xfrm>
              <a:off x="4084560" y="2843280"/>
              <a:ext cx="6681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пасы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3" name="TextBox 25"/>
            <p:cNvSpPr/>
            <p:nvPr/>
          </p:nvSpPr>
          <p:spPr>
            <a:xfrm>
              <a:off x="4084560" y="1797120"/>
              <a:ext cx="6681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офис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4" name="TextBox 26"/>
            <p:cNvSpPr/>
            <p:nvPr/>
          </p:nvSpPr>
          <p:spPr>
            <a:xfrm>
              <a:off x="3002040" y="1612800"/>
              <a:ext cx="5983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ванная комнат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5" name="TextBox 27"/>
            <p:cNvSpPr/>
            <p:nvPr/>
          </p:nvSpPr>
          <p:spPr>
            <a:xfrm>
              <a:off x="825480" y="4079880"/>
              <a:ext cx="8377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бактери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паразит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6" name="TextBox 28"/>
            <p:cNvSpPr/>
            <p:nvPr/>
          </p:nvSpPr>
          <p:spPr>
            <a:xfrm>
              <a:off x="1735200" y="2843280"/>
              <a:ext cx="4536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мойк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7" name="TextBox 29"/>
            <p:cNvSpPr/>
            <p:nvPr/>
          </p:nvSpPr>
          <p:spPr>
            <a:xfrm>
              <a:off x="2582640" y="2873520"/>
              <a:ext cx="6062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Verdana"/>
                </a:rPr>
                <a:t>приготовление сред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8" name="TextBox 30"/>
            <p:cNvSpPr/>
            <p:nvPr/>
          </p:nvSpPr>
          <p:spPr>
            <a:xfrm>
              <a:off x="884160" y="2843280"/>
              <a:ext cx="547560" cy="33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стерилизац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9" name="TextBox 31"/>
            <p:cNvSpPr/>
            <p:nvPr/>
          </p:nvSpPr>
          <p:spPr>
            <a:xfrm>
              <a:off x="1060200" y="1712880"/>
              <a:ext cx="574560" cy="32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ночного дежурного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0" name="TextBox 32"/>
            <p:cNvSpPr/>
            <p:nvPr/>
          </p:nvSpPr>
          <p:spPr>
            <a:xfrm>
              <a:off x="1960560" y="1725480"/>
              <a:ext cx="487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персонал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1" name="TextBox 33"/>
            <p:cNvSpPr/>
            <p:nvPr/>
          </p:nvSpPr>
          <p:spPr>
            <a:xfrm rot="5400000">
              <a:off x="3197880" y="3565800"/>
              <a:ext cx="5526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ридор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72" name="Rectangle 3"/>
          <p:cNvSpPr/>
          <p:nvPr/>
        </p:nvSpPr>
        <p:spPr>
          <a:xfrm>
            <a:off x="5867280" y="2133720"/>
            <a:ext cx="2971800" cy="38098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Oval 4"/>
          <p:cNvSpPr/>
          <p:nvPr/>
        </p:nvSpPr>
        <p:spPr>
          <a:xfrm>
            <a:off x="5867280" y="2514600"/>
            <a:ext cx="2971800" cy="28195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нешняя группа или ведом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Text Box 6"/>
          <p:cNvSpPr/>
          <p:nvPr/>
        </p:nvSpPr>
        <p:spPr>
          <a:xfrm>
            <a:off x="5867280" y="8380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Внешний 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 Box 13"/>
          <p:cNvSpPr/>
          <p:nvPr/>
        </p:nvSpPr>
        <p:spPr>
          <a:xfrm>
            <a:off x="1523880" y="1600200"/>
            <a:ext cx="2743200" cy="990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Внутренний ауди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Line 14"/>
          <p:cNvSpPr/>
          <p:nvPr/>
        </p:nvSpPr>
        <p:spPr>
          <a:xfrm flipH="1">
            <a:off x="4419360" y="380988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Line 15"/>
          <p:cNvSpPr/>
          <p:nvPr/>
        </p:nvSpPr>
        <p:spPr>
          <a:xfrm flipH="1">
            <a:off x="4343400" y="228600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Line 16"/>
          <p:cNvSpPr/>
          <p:nvPr/>
        </p:nvSpPr>
        <p:spPr>
          <a:xfrm flipH="1" flipV="1">
            <a:off x="4343400" y="5257800"/>
            <a:ext cx="1447920" cy="5335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Text Box 17"/>
          <p:cNvSpPr/>
          <p:nvPr/>
        </p:nvSpPr>
        <p:spPr>
          <a:xfrm>
            <a:off x="685800" y="914400"/>
            <a:ext cx="44956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Лаборатория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AutoShape 19"/>
          <p:cNvSpPr/>
          <p:nvPr/>
        </p:nvSpPr>
        <p:spPr>
          <a:xfrm rot="5400000">
            <a:off x="1066680" y="312408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AutoShape 20"/>
          <p:cNvSpPr/>
          <p:nvPr/>
        </p:nvSpPr>
        <p:spPr>
          <a:xfrm rot="13572000">
            <a:off x="2895480" y="472392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Slide Number Placeholder 1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CC0F-61D0-4765-9F2C-F6A8AF02D6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Footer Placeholder 1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Footer Placeholder 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70D1-23E1-4ECE-975A-9AEABD03CF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6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787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Text Box 5"/>
          <p:cNvSpPr/>
          <p:nvPr/>
        </p:nvSpPr>
        <p:spPr>
          <a:xfrm>
            <a:off x="762120" y="4572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ехнологическая цепоч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Text Box 6"/>
          <p:cNvSpPr/>
          <p:nvPr/>
        </p:nvSpPr>
        <p:spPr>
          <a:xfrm>
            <a:off x="990720" y="144792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AutoShape 7"/>
          <p:cNvSpPr/>
          <p:nvPr/>
        </p:nvSpPr>
        <p:spPr>
          <a:xfrm>
            <a:off x="2286000" y="1447920"/>
            <a:ext cx="1066680" cy="38088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AutoShape 8"/>
          <p:cNvSpPr/>
          <p:nvPr/>
        </p:nvSpPr>
        <p:spPr>
          <a:xfrm>
            <a:off x="5334120" y="1447920"/>
            <a:ext cx="1218960" cy="38088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Text Box 9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бор проб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Text Box 10"/>
          <p:cNvSpPr/>
          <p:nvPr/>
        </p:nvSpPr>
        <p:spPr>
          <a:xfrm>
            <a:off x="5715000" y="2362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Text Box 12"/>
          <p:cNvSpPr/>
          <p:nvPr/>
        </p:nvSpPr>
        <p:spPr>
          <a:xfrm>
            <a:off x="6400800" y="5029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5T12:33:11Z</dcterms:modified>
  <cp:revision>187</cp:revision>
  <dc:subject/>
  <dc:title>Slide 1</dc:title>
</cp:coreProperties>
</file>